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13E4-189A-446F-8153-2882AE88E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C886-54E1-4E96-8518-67903C3E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8989-BB24-4102-89FB-C20B166C0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5780-5ACA-4308-8806-8B06953BD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0F30B-C479-46D4-A865-5D8721AA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BAE7-45F1-4776-A099-7EE9BFD54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98F8C-F28D-451E-A4CD-D684E5C2D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EB0D-8509-409C-97F1-D2233D40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A923-9602-493C-91B2-7DDE42E67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7B7BA-5653-44F4-A280-AB977DBEB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87A-824C-443A-8DE9-42AA8189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9E5F-7E43-4540-B952-36ED120FD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1AF69-F09A-4509-9494-78EE447B48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45720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14600" y="5335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001000" y="533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72200" y="5335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419720" y="5335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228600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3623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001000" y="23623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23623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419720" y="23623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41148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001000" y="4191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72200" y="41911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5943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14600" y="6019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01000" y="601992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172200" y="601992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419720" y="6019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7240" y="457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5800" y="594360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609480" y="380880"/>
            <a:ext cx="3124440" cy="30481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257800" y="304920"/>
            <a:ext cx="3124080" cy="304776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34120" y="3657600"/>
            <a:ext cx="3124080" cy="30481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3124080" cy="304776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685800" y="45720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14600" y="53352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01000" y="5335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172200" y="5335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419720" y="5335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228600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14600" y="236232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01000" y="23623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172200" y="23623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419720" y="23623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411480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4191120"/>
            <a:ext cx="380880" cy="38088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01000" y="41911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72200" y="41911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419720" y="4191120"/>
            <a:ext cx="380880" cy="38088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594360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6019920"/>
            <a:ext cx="380880" cy="3808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001000" y="6019920"/>
            <a:ext cx="380880" cy="38088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72200" y="6019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419720" y="6019920"/>
            <a:ext cx="380880" cy="3808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80880" y="2286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80880" y="20574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80880" y="396252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80880" y="57150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2286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09680" y="20574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09680" y="396252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09680" y="5715000"/>
            <a:ext cx="990720" cy="91440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038480" y="22860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038480" y="396252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038480" y="571500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15228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198108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943600" y="388620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943600" y="5638680"/>
            <a:ext cx="990720" cy="91440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96080" y="1522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696080" y="19810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696080" y="388620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56386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80880" y="2286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0880" y="20574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396252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57150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209680" y="2286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20574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396252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209680" y="5715000"/>
            <a:ext cx="990720" cy="91440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038480" y="22860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038480" y="205740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38480" y="396252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038480" y="571500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943600" y="15228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943600" y="198108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943600" y="388620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943600" y="5638680"/>
            <a:ext cx="99072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96080" y="1522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696080" y="19810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96080" y="388620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696080" y="5638680"/>
            <a:ext cx="99072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09480" y="38088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8088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553080" y="38088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342900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342900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3429000"/>
            <a:ext cx="2057400" cy="2133720"/>
          </a:xfrm>
          <a:prstGeom prst="ellipse">
            <a:avLst/>
          </a:prstGeom>
          <a:solidFill>
            <a:srgbClr val="e303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09480" y="38088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581280" y="38088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553080" y="38088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9480" y="342900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581280" y="342900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3429000"/>
            <a:ext cx="2057400" cy="2133720"/>
          </a:xfrm>
          <a:prstGeom prst="ellipse">
            <a:avLst/>
          </a:prstGeom>
          <a:solidFill>
            <a:srgbClr val="f973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609480" y="38088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581280" y="38088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553080" y="38088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09480" y="342900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581280" y="342900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53080" y="3429000"/>
            <a:ext cx="2057400" cy="2133720"/>
          </a:xfrm>
          <a:prstGeom prst="ellipse">
            <a:avLst/>
          </a:prstGeom>
          <a:solidFill>
            <a:srgbClr val="e8e82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609480" y="38088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8088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553080" y="38088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342900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581280" y="342900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553080" y="3429000"/>
            <a:ext cx="2057400" cy="21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609480" y="38088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81280" y="38088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553080" y="38088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09480" y="342900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581280" y="342900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553080" y="3429000"/>
            <a:ext cx="20574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5T01:41:10Z</dcterms:created>
  <dc:creator>balber</dc:creator>
  <dc:description/>
  <dc:language>en-US</dc:language>
  <cp:lastModifiedBy>balber</cp:lastModifiedBy>
  <dcterms:modified xsi:type="dcterms:W3CDTF">2008-10-15T02:02:33Z</dcterms:modified>
  <cp:revision>5</cp:revision>
  <dc:subject/>
  <dc:title>Slide 1</dc:title>
</cp:coreProperties>
</file>